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6.png" ContentType="image/png"/>
  <Override PartName="/ppt/media/image9.wmf" ContentType="image/x-wmf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/</a:t>
            </a:r>
            <a:fld id="{F2CC104E-3441-4339-A414-8C878DD3A1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ermin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34040" cy="578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2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1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1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32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3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9" name="Group 2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50" name="Line 3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4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rsuse eesmär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gi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5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ja mis ei ole arvuti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Wikiped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computer is a general purpose device that can be programmed to carry out a set of arithmetic or logical operations. Since a sequence of operations can be readily changed, the computer can solve more than one kind of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Goo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n electronic device which is capable of receiving information (data) in a particular form and of performing a sequence of operations in accordance with a predetermined but variable set of procedural instructions (program) to produce a result in the form of information or signa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One course in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Univ. of Virginia</a:t>
            </a: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mputer is a device which takes data in one form, uses it, and produces a different form of information which is related to (but not the same as) the original d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omputers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hanic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neral-purpose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cial-purpose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al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alog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ks algallikatest: 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üssitootmise tehnoloogia võimaldas: 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uring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en.wikipedia.org/wiki/Alan_Tu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radiolab.org/story/193037-turing-problem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2" name="Picture 7" descr="http://math2033.uark.edu/wiki/images/6/6d/Turing-machine.jpg"/>
          <p:cNvPicPr/>
          <p:nvPr/>
        </p:nvPicPr>
        <p:blipFill>
          <a:blip r:embed="rId1"/>
          <a:stretch/>
        </p:blipFill>
        <p:spPr>
          <a:xfrm>
            <a:off x="1619280" y="380880"/>
            <a:ext cx="5943600" cy="2853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1523880" y="586728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://www.youtube.com/watch?v=cYw2ewoO6c4&amp;NR=1https://www.youtube.com/watch?v=40DkJ9vt5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s://www.youtube.com/watch?v=ivPv_kaYuw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9" descr="http://www.legoturingmachine.org/images/global.jpg"/>
          <p:cNvPicPr/>
          <p:nvPr/>
        </p:nvPicPr>
        <p:blipFill>
          <a:blip r:embed="rId2"/>
          <a:stretch/>
        </p:blipFill>
        <p:spPr>
          <a:xfrm>
            <a:off x="380880" y="329400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https://encrypted-tbn0.gstatic.com/images?q=tbn:ANd9GcTISCKcQXibQWulTUd-DSxwFv_Q0_P-PY-bKrxcnjStKkZD02JohRxYWmUI"/>
          <p:cNvPicPr/>
          <p:nvPr/>
        </p:nvPicPr>
        <p:blipFill>
          <a:blip r:embed="rId3"/>
          <a:stretch/>
        </p:blipFill>
        <p:spPr>
          <a:xfrm>
            <a:off x="4519440" y="3733920"/>
            <a:ext cx="38768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vustada edaspidiseid teemasid/kursusi stuudiumi vältel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2496240" y="2556000"/>
            <a:ext cx="1553400" cy="3386520"/>
            <a:chOff x="2496240" y="2556000"/>
            <a:chExt cx="1553400" cy="3386520"/>
          </a:xfrm>
        </p:grpSpPr>
        <p:sp>
          <p:nvSpPr>
            <p:cNvPr id="197" name="AutoShape 4"/>
            <p:cNvSpPr/>
            <p:nvPr/>
          </p:nvSpPr>
          <p:spPr>
            <a:xfrm>
              <a:off x="2498760" y="2556000"/>
              <a:ext cx="1550880" cy="3373200"/>
            </a:xfrm>
            <a:custGeom>
              <a:avLst/>
              <a:gdLst>
                <a:gd name="textAreaLeft" fmla="*/ 360 w 1550880"/>
                <a:gd name="textAreaRight" fmla="*/ 1550520 w 1550880"/>
                <a:gd name="textAreaTop" fmla="*/ 360 h 3373200"/>
                <a:gd name="textAreaBottom" fmla="*/ 3372840 h 3373200"/>
              </a:gdLst>
              <a:ahLst/>
              <a:rect l="textAreaLeft" t="textAreaTop" r="textAreaRight" b="textAreaBottom"/>
              <a:pathLst>
                <a:path w="21600" h="46975">
                  <a:moveTo>
                    <a:pt x="22" y="0"/>
                  </a:moveTo>
                  <a:arcTo wR="22" hR="22" stAng="16200000" swAng="-5400000"/>
                  <a:lnTo>
                    <a:pt x="0" y="46953"/>
                  </a:lnTo>
                  <a:arcTo wR="22" hR="22" stAng="10800000" swAng="-5400000"/>
                  <a:lnTo>
                    <a:pt x="21578" y="4697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5"/>
            <p:cNvGrpSpPr/>
            <p:nvPr/>
          </p:nvGrpSpPr>
          <p:grpSpPr>
            <a:xfrm>
              <a:off x="2496240" y="2556000"/>
              <a:ext cx="1553400" cy="3386520"/>
              <a:chOff x="2496240" y="2556000"/>
              <a:chExt cx="1553400" cy="3386520"/>
            </a:xfrm>
          </p:grpSpPr>
          <p:sp>
            <p:nvSpPr>
              <p:cNvPr id="199" name="AutoShape 6"/>
              <p:cNvSpPr/>
              <p:nvPr/>
            </p:nvSpPr>
            <p:spPr>
              <a:xfrm>
                <a:off x="2498760" y="2556000"/>
                <a:ext cx="1550880" cy="3373200"/>
              </a:xfrm>
              <a:custGeom>
                <a:avLst/>
                <a:gdLst>
                  <a:gd name="textAreaLeft" fmla="*/ 360 w 1550880"/>
                  <a:gd name="textAreaRight" fmla="*/ 1550520 w 1550880"/>
                  <a:gd name="textAreaTop" fmla="*/ 360 h 3373200"/>
                  <a:gd name="textAreaBottom" fmla="*/ 3372840 h 3373200"/>
                </a:gdLst>
                <a:ahLst/>
                <a:rect l="textAreaLeft" t="textAreaTop" r="textAreaRight" b="textAreaBottom"/>
                <a:pathLst>
                  <a:path w="21600" h="46975">
                    <a:moveTo>
                      <a:pt x="22" y="0"/>
                    </a:moveTo>
                    <a:arcTo wR="22" hR="22" stAng="16200000" swAng="-5400000"/>
                    <a:lnTo>
                      <a:pt x="0" y="46953"/>
                    </a:lnTo>
                    <a:arcTo wR="22" hR="22" stAng="10800000" swAng="-5400000"/>
                    <a:lnTo>
                      <a:pt x="21578" y="4697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7"/>
              <p:cNvSpPr/>
              <p:nvPr/>
            </p:nvSpPr>
            <p:spPr>
              <a:xfrm>
                <a:off x="249624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Group 8"/>
          <p:cNvGrpSpPr/>
          <p:nvPr/>
        </p:nvGrpSpPr>
        <p:grpSpPr>
          <a:xfrm>
            <a:off x="4720680" y="3809880"/>
            <a:ext cx="2208240" cy="460440"/>
            <a:chOff x="4720680" y="3809880"/>
            <a:chExt cx="2208240" cy="460440"/>
          </a:xfrm>
        </p:grpSpPr>
        <p:sp>
          <p:nvSpPr>
            <p:cNvPr id="202" name="AutoShape 9"/>
            <p:cNvSpPr/>
            <p:nvPr/>
          </p:nvSpPr>
          <p:spPr>
            <a:xfrm>
              <a:off x="4724280" y="3809880"/>
              <a:ext cx="220032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" name="Group 10"/>
            <p:cNvGrpSpPr/>
            <p:nvPr/>
          </p:nvGrpSpPr>
          <p:grpSpPr>
            <a:xfrm>
              <a:off x="4720680" y="3809880"/>
              <a:ext cx="2208240" cy="460440"/>
              <a:chOff x="4720680" y="3809880"/>
              <a:chExt cx="2208240" cy="460440"/>
            </a:xfrm>
          </p:grpSpPr>
          <p:sp>
            <p:nvSpPr>
              <p:cNvPr id="204" name="AutoShape 11"/>
              <p:cNvSpPr/>
              <p:nvPr/>
            </p:nvSpPr>
            <p:spPr>
              <a:xfrm>
                <a:off x="4724280" y="3809880"/>
                <a:ext cx="220032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AutoShape 12"/>
              <p:cNvSpPr/>
              <p:nvPr/>
            </p:nvSpPr>
            <p:spPr>
              <a:xfrm>
                <a:off x="472068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Freeform 13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990720" y="3352680"/>
            <a:ext cx="7678440" cy="1191960"/>
            <a:chOff x="990720" y="3352680"/>
            <a:chExt cx="7678440" cy="1191960"/>
          </a:xfrm>
        </p:grpSpPr>
        <p:sp>
          <p:nvSpPr>
            <p:cNvPr id="210" name="AutoShape 4"/>
            <p:cNvSpPr/>
            <p:nvPr/>
          </p:nvSpPr>
          <p:spPr>
            <a:xfrm>
              <a:off x="990720" y="3352680"/>
              <a:ext cx="7678440" cy="118296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Group 5"/>
            <p:cNvGrpSpPr/>
            <p:nvPr/>
          </p:nvGrpSpPr>
          <p:grpSpPr>
            <a:xfrm>
              <a:off x="990720" y="3352680"/>
              <a:ext cx="7678440" cy="1191960"/>
              <a:chOff x="990720" y="3352680"/>
              <a:chExt cx="7678440" cy="1191960"/>
            </a:xfrm>
          </p:grpSpPr>
          <p:sp>
            <p:nvSpPr>
              <p:cNvPr id="212" name="AutoShape 6"/>
              <p:cNvSpPr/>
              <p:nvPr/>
            </p:nvSpPr>
            <p:spPr>
              <a:xfrm>
                <a:off x="990720" y="3352680"/>
                <a:ext cx="7678440" cy="1182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7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Group 8"/>
          <p:cNvGrpSpPr/>
          <p:nvPr/>
        </p:nvGrpSpPr>
        <p:grpSpPr>
          <a:xfrm>
            <a:off x="2662920" y="2514600"/>
            <a:ext cx="1910160" cy="460440"/>
            <a:chOff x="2662920" y="2514600"/>
            <a:chExt cx="1910160" cy="460440"/>
          </a:xfrm>
        </p:grpSpPr>
        <p:sp>
          <p:nvSpPr>
            <p:cNvPr id="215" name="AutoShape 9"/>
            <p:cNvSpPr/>
            <p:nvPr/>
          </p:nvSpPr>
          <p:spPr>
            <a:xfrm>
              <a:off x="2666520" y="2514600"/>
              <a:ext cx="190656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" name="Group 10"/>
            <p:cNvGrpSpPr/>
            <p:nvPr/>
          </p:nvGrpSpPr>
          <p:grpSpPr>
            <a:xfrm>
              <a:off x="2662920" y="2514600"/>
              <a:ext cx="1909800" cy="460440"/>
              <a:chOff x="2662920" y="2514600"/>
              <a:chExt cx="1909800" cy="460440"/>
            </a:xfrm>
          </p:grpSpPr>
          <p:sp>
            <p:nvSpPr>
              <p:cNvPr id="217" name="AutoShape 11"/>
              <p:cNvSpPr/>
              <p:nvPr/>
            </p:nvSpPr>
            <p:spPr>
              <a:xfrm>
                <a:off x="2666520" y="2514600"/>
                <a:ext cx="190476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AutoShape 12"/>
              <p:cNvSpPr/>
              <p:nvPr/>
            </p:nvSpPr>
            <p:spPr>
              <a:xfrm>
                <a:off x="266292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Line 13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1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990360" y="3352680"/>
            <a:ext cx="7221600" cy="2390040"/>
            <a:chOff x="990360" y="3352680"/>
            <a:chExt cx="7221600" cy="2390040"/>
          </a:xfrm>
        </p:grpSpPr>
        <p:sp>
          <p:nvSpPr>
            <p:cNvPr id="226" name="AutoShape 5"/>
            <p:cNvSpPr/>
            <p:nvPr/>
          </p:nvSpPr>
          <p:spPr>
            <a:xfrm>
              <a:off x="990720" y="3352680"/>
              <a:ext cx="7221240" cy="2278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Group 6"/>
            <p:cNvGrpSpPr/>
            <p:nvPr/>
          </p:nvGrpSpPr>
          <p:grpSpPr>
            <a:xfrm>
              <a:off x="990360" y="3352680"/>
              <a:ext cx="7221600" cy="2390040"/>
              <a:chOff x="990360" y="3352680"/>
              <a:chExt cx="7221600" cy="2390040"/>
            </a:xfrm>
          </p:grpSpPr>
          <p:sp>
            <p:nvSpPr>
              <p:cNvPr id="228" name="AutoShape 7"/>
              <p:cNvSpPr/>
              <p:nvPr/>
            </p:nvSpPr>
            <p:spPr>
              <a:xfrm>
                <a:off x="990720" y="3352680"/>
                <a:ext cx="7221240" cy="2278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8"/>
              <p:cNvSpPr/>
              <p:nvPr/>
            </p:nvSpPr>
            <p:spPr>
              <a:xfrm>
                <a:off x="990360" y="3352680"/>
                <a:ext cx="7182720" cy="239004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Group 9"/>
          <p:cNvGrpSpPr/>
          <p:nvPr/>
        </p:nvGrpSpPr>
        <p:grpSpPr>
          <a:xfrm>
            <a:off x="2664720" y="2514600"/>
            <a:ext cx="1834200" cy="460440"/>
            <a:chOff x="2664720" y="2514600"/>
            <a:chExt cx="1834200" cy="460440"/>
          </a:xfrm>
        </p:grpSpPr>
        <p:sp>
          <p:nvSpPr>
            <p:cNvPr id="231" name="AutoShape 10"/>
            <p:cNvSpPr/>
            <p:nvPr/>
          </p:nvSpPr>
          <p:spPr>
            <a:xfrm>
              <a:off x="2666880" y="2514600"/>
              <a:ext cx="183204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2" name="Group 11"/>
            <p:cNvGrpSpPr/>
            <p:nvPr/>
          </p:nvGrpSpPr>
          <p:grpSpPr>
            <a:xfrm>
              <a:off x="2664720" y="2514600"/>
              <a:ext cx="1834200" cy="460440"/>
              <a:chOff x="2664720" y="2514600"/>
              <a:chExt cx="1834200" cy="460440"/>
            </a:xfrm>
          </p:grpSpPr>
          <p:sp>
            <p:nvSpPr>
              <p:cNvPr id="233" name="AutoShape 12"/>
              <p:cNvSpPr/>
              <p:nvPr/>
            </p:nvSpPr>
            <p:spPr>
              <a:xfrm>
                <a:off x="2666880" y="2514600"/>
                <a:ext cx="183204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AutoShape 13"/>
              <p:cNvSpPr/>
              <p:nvPr/>
            </p:nvSpPr>
            <p:spPr>
              <a:xfrm>
                <a:off x="266472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" name="Line 14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15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835920" y="2438280"/>
            <a:ext cx="2130480" cy="1009080"/>
            <a:chOff x="835920" y="2438280"/>
            <a:chExt cx="2130480" cy="1009080"/>
          </a:xfrm>
        </p:grpSpPr>
        <p:sp>
          <p:nvSpPr>
            <p:cNvPr id="241" name="AutoShape 4"/>
            <p:cNvSpPr/>
            <p:nvPr/>
          </p:nvSpPr>
          <p:spPr>
            <a:xfrm>
              <a:off x="838080" y="2438280"/>
              <a:ext cx="212256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Group 5"/>
            <p:cNvGrpSpPr/>
            <p:nvPr/>
          </p:nvGrpSpPr>
          <p:grpSpPr>
            <a:xfrm>
              <a:off x="835920" y="2438280"/>
              <a:ext cx="2130480" cy="1009080"/>
              <a:chOff x="835920" y="2438280"/>
              <a:chExt cx="2130480" cy="1009080"/>
            </a:xfrm>
          </p:grpSpPr>
          <p:sp>
            <p:nvSpPr>
              <p:cNvPr id="243" name="AutoShape 6"/>
              <p:cNvSpPr/>
              <p:nvPr/>
            </p:nvSpPr>
            <p:spPr>
              <a:xfrm>
                <a:off x="838080" y="2438280"/>
                <a:ext cx="212256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7"/>
              <p:cNvSpPr/>
              <p:nvPr/>
            </p:nvSpPr>
            <p:spPr>
              <a:xfrm>
                <a:off x="83592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Group 8"/>
          <p:cNvGrpSpPr/>
          <p:nvPr/>
        </p:nvGrpSpPr>
        <p:grpSpPr>
          <a:xfrm>
            <a:off x="759600" y="3511440"/>
            <a:ext cx="2226600" cy="993960"/>
            <a:chOff x="759600" y="3511440"/>
            <a:chExt cx="2226600" cy="993960"/>
          </a:xfrm>
        </p:grpSpPr>
        <p:sp>
          <p:nvSpPr>
            <p:cNvPr id="246" name="AutoShape 9"/>
            <p:cNvSpPr/>
            <p:nvPr/>
          </p:nvSpPr>
          <p:spPr>
            <a:xfrm>
              <a:off x="762120" y="3511440"/>
              <a:ext cx="2224080" cy="99396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7" name="Group 10"/>
            <p:cNvGrpSpPr/>
            <p:nvPr/>
          </p:nvGrpSpPr>
          <p:grpSpPr>
            <a:xfrm>
              <a:off x="759600" y="3511440"/>
              <a:ext cx="2226600" cy="993960"/>
              <a:chOff x="759600" y="3511440"/>
              <a:chExt cx="2226600" cy="993960"/>
            </a:xfrm>
          </p:grpSpPr>
          <p:sp>
            <p:nvSpPr>
              <p:cNvPr id="248" name="AutoShape 11"/>
              <p:cNvSpPr/>
              <p:nvPr/>
            </p:nvSpPr>
            <p:spPr>
              <a:xfrm>
                <a:off x="762120" y="3511440"/>
                <a:ext cx="2224080" cy="99396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AutoShape 12"/>
              <p:cNvSpPr/>
              <p:nvPr/>
            </p:nvSpPr>
            <p:spPr>
              <a:xfrm>
                <a:off x="75960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" name="AutoShape 13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5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7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19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Group 20"/>
          <p:cNvGrpSpPr/>
          <p:nvPr/>
        </p:nvGrpSpPr>
        <p:grpSpPr>
          <a:xfrm>
            <a:off x="3733920" y="2438280"/>
            <a:ext cx="2224440" cy="734760"/>
            <a:chOff x="3733920" y="2438280"/>
            <a:chExt cx="2224440" cy="734760"/>
          </a:xfrm>
        </p:grpSpPr>
        <p:sp>
          <p:nvSpPr>
            <p:cNvPr id="258" name="AutoShape 21"/>
            <p:cNvSpPr/>
            <p:nvPr/>
          </p:nvSpPr>
          <p:spPr>
            <a:xfrm>
              <a:off x="3733920" y="2438280"/>
              <a:ext cx="2211120" cy="72720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3733920" y="2438280"/>
              <a:ext cx="2224440" cy="734760"/>
              <a:chOff x="3733920" y="2438280"/>
              <a:chExt cx="2224440" cy="734760"/>
            </a:xfrm>
          </p:grpSpPr>
          <p:sp>
            <p:nvSpPr>
              <p:cNvPr id="260" name="AutoShape 23"/>
              <p:cNvSpPr/>
              <p:nvPr/>
            </p:nvSpPr>
            <p:spPr>
              <a:xfrm>
                <a:off x="3733920" y="2438280"/>
                <a:ext cx="2209680" cy="72720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24"/>
              <p:cNvSpPr/>
              <p:nvPr/>
            </p:nvSpPr>
            <p:spPr>
              <a:xfrm>
                <a:off x="373500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Group 25"/>
          <p:cNvGrpSpPr/>
          <p:nvPr/>
        </p:nvGrpSpPr>
        <p:grpSpPr>
          <a:xfrm>
            <a:off x="3656880" y="3359160"/>
            <a:ext cx="2224800" cy="993600"/>
            <a:chOff x="3656880" y="3359160"/>
            <a:chExt cx="2224800" cy="993600"/>
          </a:xfrm>
        </p:grpSpPr>
        <p:sp>
          <p:nvSpPr>
            <p:cNvPr id="263" name="AutoShape 26"/>
            <p:cNvSpPr/>
            <p:nvPr/>
          </p:nvSpPr>
          <p:spPr>
            <a:xfrm>
              <a:off x="3657600" y="3359160"/>
              <a:ext cx="2224080" cy="9936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Group 27"/>
            <p:cNvGrpSpPr/>
            <p:nvPr/>
          </p:nvGrpSpPr>
          <p:grpSpPr>
            <a:xfrm>
              <a:off x="3656880" y="3359160"/>
              <a:ext cx="2224800" cy="993600"/>
              <a:chOff x="3656880" y="3359160"/>
              <a:chExt cx="2224800" cy="993600"/>
            </a:xfrm>
          </p:grpSpPr>
          <p:sp>
            <p:nvSpPr>
              <p:cNvPr id="265" name="AutoShape 28"/>
              <p:cNvSpPr/>
              <p:nvPr/>
            </p:nvSpPr>
            <p:spPr>
              <a:xfrm>
                <a:off x="3657600" y="3359160"/>
                <a:ext cx="2224080" cy="9936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AutoShape 29"/>
              <p:cNvSpPr/>
              <p:nvPr/>
            </p:nvSpPr>
            <p:spPr>
              <a:xfrm>
                <a:off x="365688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AutoShape 30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31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32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33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34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35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36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37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38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39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40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41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Line 42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43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44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Line 45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46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Group 47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85" name="AutoShape 48"/>
            <p:cNvSpPr/>
            <p:nvPr/>
          </p:nvSpPr>
          <p:spPr>
            <a:xfrm>
              <a:off x="6477120" y="2438280"/>
              <a:ext cx="194472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Group 49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87" name="AutoShape 50"/>
              <p:cNvSpPr/>
              <p:nvPr/>
            </p:nvSpPr>
            <p:spPr>
              <a:xfrm>
                <a:off x="6477120" y="2438280"/>
                <a:ext cx="194472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51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Group 52"/>
          <p:cNvGrpSpPr/>
          <p:nvPr/>
        </p:nvGrpSpPr>
        <p:grpSpPr>
          <a:xfrm>
            <a:off x="5421600" y="4041720"/>
            <a:ext cx="1077480" cy="1074600"/>
            <a:chOff x="5421600" y="4041720"/>
            <a:chExt cx="1077480" cy="1074600"/>
          </a:xfrm>
        </p:grpSpPr>
        <p:sp>
          <p:nvSpPr>
            <p:cNvPr id="290" name="AutoShape 53"/>
            <p:cNvSpPr/>
            <p:nvPr/>
          </p:nvSpPr>
          <p:spPr>
            <a:xfrm rot="1980000">
              <a:off x="5722920" y="4413240"/>
              <a:ext cx="484200" cy="3333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Group 54"/>
            <p:cNvGrpSpPr/>
            <p:nvPr/>
          </p:nvGrpSpPr>
          <p:grpSpPr>
            <a:xfrm>
              <a:off x="5421600" y="4041720"/>
              <a:ext cx="1077480" cy="1074600"/>
              <a:chOff x="5421600" y="4041720"/>
              <a:chExt cx="1077480" cy="1074600"/>
            </a:xfrm>
          </p:grpSpPr>
          <p:sp>
            <p:nvSpPr>
              <p:cNvPr id="292" name="AutoShape 55"/>
              <p:cNvSpPr/>
              <p:nvPr/>
            </p:nvSpPr>
            <p:spPr>
              <a:xfrm rot="1980000">
                <a:off x="5568480" y="4192560"/>
                <a:ext cx="783000" cy="772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56"/>
              <p:cNvSpPr/>
              <p:nvPr/>
            </p:nvSpPr>
            <p:spPr>
              <a:xfrm rot="1980000">
                <a:off x="5826960" y="42364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Group 57"/>
          <p:cNvGrpSpPr/>
          <p:nvPr/>
        </p:nvGrpSpPr>
        <p:grpSpPr>
          <a:xfrm>
            <a:off x="4926600" y="4031280"/>
            <a:ext cx="1110240" cy="1114560"/>
            <a:chOff x="4926600" y="4031280"/>
            <a:chExt cx="1110240" cy="1114560"/>
          </a:xfrm>
        </p:grpSpPr>
        <p:sp>
          <p:nvSpPr>
            <p:cNvPr id="295" name="AutoShape 58"/>
            <p:cNvSpPr/>
            <p:nvPr/>
          </p:nvSpPr>
          <p:spPr>
            <a:xfrm rot="2400000">
              <a:off x="5260680" y="4417920"/>
              <a:ext cx="48564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Group 59"/>
            <p:cNvGrpSpPr/>
            <p:nvPr/>
          </p:nvGrpSpPr>
          <p:grpSpPr>
            <a:xfrm>
              <a:off x="4926600" y="4031280"/>
              <a:ext cx="1110240" cy="1114560"/>
              <a:chOff x="4926600" y="4031280"/>
              <a:chExt cx="1110240" cy="1114560"/>
            </a:xfrm>
          </p:grpSpPr>
          <p:sp>
            <p:nvSpPr>
              <p:cNvPr id="297" name="AutoShape 60"/>
              <p:cNvSpPr/>
              <p:nvPr/>
            </p:nvSpPr>
            <p:spPr>
              <a:xfrm rot="2400000">
                <a:off x="5095800" y="4184640"/>
                <a:ext cx="771480" cy="807840"/>
              </a:xfrm>
              <a:custGeom>
                <a:avLst/>
                <a:gdLst>
                  <a:gd name="textAreaLeft" fmla="*/ 720 w 771480"/>
                  <a:gd name="textAreaRight" fmla="*/ 770760 w 771480"/>
                  <a:gd name="textAreaTop" fmla="*/ 720 h 807840"/>
                  <a:gd name="textAreaBottom" fmla="*/ 807120 h 807840"/>
                </a:gdLst>
                <a:ahLst/>
                <a:rect l="textAreaLeft" t="textAreaTop" r="textAreaRight" b="textAreaBottom"/>
                <a:pathLst>
                  <a:path w="21600" h="22618">
                    <a:moveTo>
                      <a:pt x="101" y="0"/>
                    </a:moveTo>
                    <a:arcTo wR="101" hR="101" stAng="16200000" swAng="-5400000"/>
                    <a:lnTo>
                      <a:pt x="0" y="22517"/>
                    </a:lnTo>
                    <a:arcTo wR="101" hR="101" stAng="10800000" swAng="-5400000"/>
                    <a:lnTo>
                      <a:pt x="21499" y="22618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61"/>
              <p:cNvSpPr/>
              <p:nvPr/>
            </p:nvSpPr>
            <p:spPr>
              <a:xfrm rot="2400000">
                <a:off x="5390280" y="422640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62"/>
          <p:cNvGrpSpPr/>
          <p:nvPr/>
        </p:nvGrpSpPr>
        <p:grpSpPr>
          <a:xfrm>
            <a:off x="4478760" y="4021920"/>
            <a:ext cx="1112760" cy="1116000"/>
            <a:chOff x="4478760" y="4021920"/>
            <a:chExt cx="1112760" cy="1116000"/>
          </a:xfrm>
        </p:grpSpPr>
        <p:sp>
          <p:nvSpPr>
            <p:cNvPr id="300" name="AutoShape 63"/>
            <p:cNvSpPr/>
            <p:nvPr/>
          </p:nvSpPr>
          <p:spPr>
            <a:xfrm rot="2280000">
              <a:off x="480708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64"/>
            <p:cNvGrpSpPr/>
            <p:nvPr/>
          </p:nvGrpSpPr>
          <p:grpSpPr>
            <a:xfrm>
              <a:off x="4478760" y="4021920"/>
              <a:ext cx="1112760" cy="1116000"/>
              <a:chOff x="4478760" y="4021920"/>
              <a:chExt cx="1112760" cy="1116000"/>
            </a:xfrm>
          </p:grpSpPr>
          <p:sp>
            <p:nvSpPr>
              <p:cNvPr id="302" name="AutoShape 65"/>
              <p:cNvSpPr/>
              <p:nvPr/>
            </p:nvSpPr>
            <p:spPr>
              <a:xfrm rot="2280000">
                <a:off x="4642920" y="4178160"/>
                <a:ext cx="784440" cy="803160"/>
              </a:xfrm>
              <a:custGeom>
                <a:avLst/>
                <a:gdLst>
                  <a:gd name="textAreaLeft" fmla="*/ 720 w 784440"/>
                  <a:gd name="textAreaRight" fmla="*/ 783720 w 784440"/>
                  <a:gd name="textAreaTop" fmla="*/ 720 h 803160"/>
                  <a:gd name="textAreaBottom" fmla="*/ 802440 h 803160"/>
                </a:gdLst>
                <a:ahLst/>
                <a:rect l="textAreaLeft" t="textAreaTop" r="textAreaRight" b="textAreaBottom"/>
                <a:pathLst>
                  <a:path w="21600" h="22115">
                    <a:moveTo>
                      <a:pt x="101" y="0"/>
                    </a:moveTo>
                    <a:arcTo wR="101" hR="101" stAng="16200000" swAng="-5400000"/>
                    <a:lnTo>
                      <a:pt x="0" y="22014"/>
                    </a:lnTo>
                    <a:arcTo wR="101" hR="101" stAng="10800000" swAng="-5400000"/>
                    <a:lnTo>
                      <a:pt x="21499" y="22115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66"/>
              <p:cNvSpPr/>
              <p:nvPr/>
            </p:nvSpPr>
            <p:spPr>
              <a:xfrm rot="2280000">
                <a:off x="492804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67"/>
          <p:cNvGrpSpPr/>
          <p:nvPr/>
        </p:nvGrpSpPr>
        <p:grpSpPr>
          <a:xfrm>
            <a:off x="4107960" y="4033080"/>
            <a:ext cx="1089720" cy="1092240"/>
            <a:chOff x="4107960" y="4033080"/>
            <a:chExt cx="1089720" cy="1092240"/>
          </a:xfrm>
        </p:grpSpPr>
        <p:sp>
          <p:nvSpPr>
            <p:cNvPr id="305" name="AutoShape 68"/>
            <p:cNvSpPr/>
            <p:nvPr/>
          </p:nvSpPr>
          <p:spPr>
            <a:xfrm rot="2100000">
              <a:off x="442224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Group 69"/>
            <p:cNvGrpSpPr/>
            <p:nvPr/>
          </p:nvGrpSpPr>
          <p:grpSpPr>
            <a:xfrm>
              <a:off x="4107960" y="4033080"/>
              <a:ext cx="1089720" cy="1092240"/>
              <a:chOff x="4107960" y="4033080"/>
              <a:chExt cx="1089720" cy="1092240"/>
            </a:xfrm>
          </p:grpSpPr>
          <p:sp>
            <p:nvSpPr>
              <p:cNvPr id="307" name="AutoShape 70"/>
              <p:cNvSpPr/>
              <p:nvPr/>
            </p:nvSpPr>
            <p:spPr>
              <a:xfrm rot="2100000">
                <a:off x="4263840" y="4184640"/>
                <a:ext cx="777960" cy="788760"/>
              </a:xfrm>
              <a:custGeom>
                <a:avLst/>
                <a:gdLst>
                  <a:gd name="textAreaLeft" fmla="*/ 720 w 777960"/>
                  <a:gd name="textAreaRight" fmla="*/ 777240 w 777960"/>
                  <a:gd name="textAreaTop" fmla="*/ 720 h 788760"/>
                  <a:gd name="textAreaBottom" fmla="*/ 788040 h 788760"/>
                </a:gdLst>
                <a:ahLst/>
                <a:rect l="textAreaLeft" t="textAreaTop" r="textAreaRight" b="textAreaBottom"/>
                <a:pathLst>
                  <a:path w="21600" h="21900">
                    <a:moveTo>
                      <a:pt x="101" y="0"/>
                    </a:moveTo>
                    <a:arcTo wR="101" hR="101" stAng="16200000" swAng="-5400000"/>
                    <a:lnTo>
                      <a:pt x="0" y="21799"/>
                    </a:lnTo>
                    <a:arcTo wR="101" hR="101" stAng="10800000" swAng="-5400000"/>
                    <a:lnTo>
                      <a:pt x="21499" y="21900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71"/>
              <p:cNvSpPr/>
              <p:nvPr/>
            </p:nvSpPr>
            <p:spPr>
              <a:xfrm rot="2100000">
                <a:off x="453636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Group 72"/>
          <p:cNvGrpSpPr/>
          <p:nvPr/>
        </p:nvGrpSpPr>
        <p:grpSpPr>
          <a:xfrm>
            <a:off x="3533400" y="3966480"/>
            <a:ext cx="1229400" cy="1237680"/>
            <a:chOff x="3533400" y="3966480"/>
            <a:chExt cx="1229400" cy="1237680"/>
          </a:xfrm>
        </p:grpSpPr>
        <p:sp>
          <p:nvSpPr>
            <p:cNvPr id="310" name="AutoShape 73"/>
            <p:cNvSpPr/>
            <p:nvPr/>
          </p:nvSpPr>
          <p:spPr>
            <a:xfrm rot="2400000">
              <a:off x="3895200" y="4419360"/>
              <a:ext cx="586080" cy="3315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" name="Group 74"/>
            <p:cNvGrpSpPr/>
            <p:nvPr/>
          </p:nvGrpSpPr>
          <p:grpSpPr>
            <a:xfrm>
              <a:off x="3533400" y="3966480"/>
              <a:ext cx="1229400" cy="1237680"/>
              <a:chOff x="3533400" y="3966480"/>
              <a:chExt cx="1229400" cy="1237680"/>
            </a:xfrm>
          </p:grpSpPr>
          <p:sp>
            <p:nvSpPr>
              <p:cNvPr id="312" name="AutoShape 75"/>
              <p:cNvSpPr/>
              <p:nvPr/>
            </p:nvSpPr>
            <p:spPr>
              <a:xfrm rot="2400000">
                <a:off x="3727080" y="4130280"/>
                <a:ext cx="841680" cy="909360"/>
              </a:xfrm>
              <a:custGeom>
                <a:avLst/>
                <a:gdLst>
                  <a:gd name="textAreaLeft" fmla="*/ 1080 w 841680"/>
                  <a:gd name="textAreaRight" fmla="*/ 840600 w 841680"/>
                  <a:gd name="textAreaTop" fmla="*/ 1080 h 909360"/>
                  <a:gd name="textAreaBottom" fmla="*/ 908280 h 909360"/>
                </a:gdLst>
                <a:ahLst/>
                <a:rect l="textAreaLeft" t="textAreaTop" r="textAreaRight" b="textAreaBottom"/>
                <a:pathLst>
                  <a:path w="21600" h="23336">
                    <a:moveTo>
                      <a:pt x="102" y="0"/>
                    </a:moveTo>
                    <a:arcTo wR="102" hR="102" stAng="16200000" swAng="-5400000"/>
                    <a:lnTo>
                      <a:pt x="0" y="23234"/>
                    </a:lnTo>
                    <a:arcTo wR="102" hR="102" stAng="10800000" swAng="-5400000"/>
                    <a:lnTo>
                      <a:pt x="21498" y="23336"/>
                    </a:lnTo>
                    <a:arcTo wR="102" hR="102" stAng="5400000" swAng="-5400000"/>
                    <a:lnTo>
                      <a:pt x="21600" y="102"/>
                    </a:lnTo>
                    <a:arcTo wR="102" hR="10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AutoShape 76"/>
              <p:cNvSpPr/>
              <p:nvPr/>
            </p:nvSpPr>
            <p:spPr>
              <a:xfrm rot="2400000">
                <a:off x="4021200" y="419832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Group 77"/>
          <p:cNvGrpSpPr/>
          <p:nvPr/>
        </p:nvGrpSpPr>
        <p:grpSpPr>
          <a:xfrm>
            <a:off x="6626880" y="4724280"/>
            <a:ext cx="410400" cy="1740600"/>
            <a:chOff x="6626880" y="4724280"/>
            <a:chExt cx="410400" cy="1740600"/>
          </a:xfrm>
        </p:grpSpPr>
        <p:sp>
          <p:nvSpPr>
            <p:cNvPr id="315" name="AutoShape 78"/>
            <p:cNvSpPr/>
            <p:nvPr/>
          </p:nvSpPr>
          <p:spPr>
            <a:xfrm>
              <a:off x="6629400" y="4724280"/>
              <a:ext cx="407880" cy="1735200"/>
            </a:xfrm>
            <a:custGeom>
              <a:avLst/>
              <a:gdLst>
                <a:gd name="textAreaLeft" fmla="*/ 360 w 407880"/>
                <a:gd name="textAreaRight" fmla="*/ 407520 w 407880"/>
                <a:gd name="textAreaTop" fmla="*/ 360 h 1735200"/>
                <a:gd name="textAreaBottom" fmla="*/ 1734840 h 1735200"/>
              </a:gdLst>
              <a:ahLst/>
              <a:rect l="textAreaLeft" t="textAreaTop" r="textAreaRight" b="textAreaBottom"/>
              <a:pathLst>
                <a:path w="21600" h="91829">
                  <a:moveTo>
                    <a:pt x="83" y="0"/>
                  </a:moveTo>
                  <a:arcTo wR="83" hR="83" stAng="16200000" swAng="-5400000"/>
                  <a:lnTo>
                    <a:pt x="0" y="91746"/>
                  </a:lnTo>
                  <a:arcTo wR="83" hR="83" stAng="10800000" swAng="-5400000"/>
                  <a:lnTo>
                    <a:pt x="21517" y="91829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6" name="Group 79"/>
            <p:cNvGrpSpPr/>
            <p:nvPr/>
          </p:nvGrpSpPr>
          <p:grpSpPr>
            <a:xfrm>
              <a:off x="6626880" y="4724280"/>
              <a:ext cx="410400" cy="1740600"/>
              <a:chOff x="6626880" y="4724280"/>
              <a:chExt cx="410400" cy="1740600"/>
            </a:xfrm>
          </p:grpSpPr>
          <p:sp>
            <p:nvSpPr>
              <p:cNvPr id="317" name="AutoShape 80"/>
              <p:cNvSpPr/>
              <p:nvPr/>
            </p:nvSpPr>
            <p:spPr>
              <a:xfrm>
                <a:off x="6629400" y="4724280"/>
                <a:ext cx="407880" cy="1735200"/>
              </a:xfrm>
              <a:custGeom>
                <a:avLst/>
                <a:gdLst>
                  <a:gd name="textAreaLeft" fmla="*/ 360 w 407880"/>
                  <a:gd name="textAreaRight" fmla="*/ 407520 w 407880"/>
                  <a:gd name="textAreaTop" fmla="*/ 360 h 1735200"/>
                  <a:gd name="textAreaBottom" fmla="*/ 1734840 h 1735200"/>
                </a:gdLst>
                <a:ahLst/>
                <a:rect l="textAreaLeft" t="textAreaTop" r="textAreaRight" b="textAreaBottom"/>
                <a:pathLst>
                  <a:path w="21600" h="91829">
                    <a:moveTo>
                      <a:pt x="83" y="0"/>
                    </a:moveTo>
                    <a:arcTo wR="83" hR="83" stAng="16200000" swAng="-5400000"/>
                    <a:lnTo>
                      <a:pt x="0" y="91746"/>
                    </a:lnTo>
                    <a:arcTo wR="83" hR="83" stAng="10800000" swAng="-5400000"/>
                    <a:lnTo>
                      <a:pt x="21517" y="918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AutoShape 81"/>
              <p:cNvSpPr/>
              <p:nvPr/>
            </p:nvSpPr>
            <p:spPr>
              <a:xfrm>
                <a:off x="662688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9" name="Freeform 82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83"/>
          <p:cNvSpPr/>
          <p:nvPr/>
        </p:nvSpPr>
        <p:spPr>
          <a:xfrm flipH="1">
            <a:off x="7455960" y="5562720"/>
            <a:ext cx="327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84"/>
          <p:cNvSpPr/>
          <p:nvPr/>
        </p:nvSpPr>
        <p:spPr>
          <a:xfrm flipV="1">
            <a:off x="7772400" y="3417480"/>
            <a:ext cx="1440" cy="215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Group 85"/>
          <p:cNvGrpSpPr/>
          <p:nvPr/>
        </p:nvGrpSpPr>
        <p:grpSpPr>
          <a:xfrm>
            <a:off x="990720" y="5531400"/>
            <a:ext cx="3498840" cy="510120"/>
            <a:chOff x="990720" y="5531400"/>
            <a:chExt cx="3498840" cy="510120"/>
          </a:xfrm>
        </p:grpSpPr>
        <p:sp>
          <p:nvSpPr>
            <p:cNvPr id="323" name="AutoShape 86"/>
            <p:cNvSpPr/>
            <p:nvPr/>
          </p:nvSpPr>
          <p:spPr>
            <a:xfrm>
              <a:off x="990720" y="5611680"/>
              <a:ext cx="3498840" cy="35424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4" name="Group 87"/>
            <p:cNvGrpSpPr/>
            <p:nvPr/>
          </p:nvGrpSpPr>
          <p:grpSpPr>
            <a:xfrm>
              <a:off x="990720" y="5531400"/>
              <a:ext cx="3497040" cy="510120"/>
              <a:chOff x="990720" y="5531400"/>
              <a:chExt cx="3497040" cy="510120"/>
            </a:xfrm>
          </p:grpSpPr>
          <p:sp>
            <p:nvSpPr>
              <p:cNvPr id="325" name="AutoShape 88"/>
              <p:cNvSpPr/>
              <p:nvPr/>
            </p:nvSpPr>
            <p:spPr>
              <a:xfrm>
                <a:off x="990720" y="5610240"/>
                <a:ext cx="3497040" cy="35388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Text Box 89"/>
              <p:cNvSpPr/>
              <p:nvPr/>
            </p:nvSpPr>
            <p:spPr>
              <a:xfrm>
                <a:off x="990720" y="5531400"/>
                <a:ext cx="349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IT on i arenenud ja mida võiks lähiaastatel oo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38" name="Group 4"/>
          <p:cNvGrpSpPr/>
          <p:nvPr/>
        </p:nvGrpSpPr>
        <p:grpSpPr>
          <a:xfrm>
            <a:off x="5712480" y="2133720"/>
            <a:ext cx="2845440" cy="4209480"/>
            <a:chOff x="5712480" y="2133720"/>
            <a:chExt cx="2845440" cy="4209480"/>
          </a:xfrm>
        </p:grpSpPr>
        <p:sp>
          <p:nvSpPr>
            <p:cNvPr id="339" name="AutoShape 5"/>
            <p:cNvSpPr/>
            <p:nvPr/>
          </p:nvSpPr>
          <p:spPr>
            <a:xfrm>
              <a:off x="5715000" y="2133720"/>
              <a:ext cx="2808360" cy="4182840"/>
            </a:xfrm>
            <a:custGeom>
              <a:avLst/>
              <a:gdLst>
                <a:gd name="textAreaLeft" fmla="*/ 360 w 2808360"/>
                <a:gd name="textAreaRight" fmla="*/ 2808000 w 2808360"/>
                <a:gd name="textAreaTop" fmla="*/ 360 h 4182840"/>
                <a:gd name="textAreaBottom" fmla="*/ 4182480 h 4182840"/>
              </a:gdLst>
              <a:ahLst/>
              <a:rect l="textAreaLeft" t="textAreaTop" r="textAreaRight" b="textAreaBottom"/>
              <a:pathLst>
                <a:path w="21600" h="32170">
                  <a:moveTo>
                    <a:pt x="12" y="0"/>
                  </a:moveTo>
                  <a:arcTo wR="12" hR="12" stAng="16200000" swAng="-5400000"/>
                  <a:lnTo>
                    <a:pt x="0" y="32158"/>
                  </a:lnTo>
                  <a:arcTo wR="12" hR="12" stAng="10800000" swAng="-5400000"/>
                  <a:lnTo>
                    <a:pt x="21588" y="32170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5712480" y="2133720"/>
              <a:ext cx="2845440" cy="4209480"/>
              <a:chOff x="5712480" y="2133720"/>
              <a:chExt cx="2845440" cy="4209480"/>
            </a:xfrm>
          </p:grpSpPr>
          <p:sp>
            <p:nvSpPr>
              <p:cNvPr id="341" name="AutoShape 7"/>
              <p:cNvSpPr/>
              <p:nvPr/>
            </p:nvSpPr>
            <p:spPr>
              <a:xfrm>
                <a:off x="5715000" y="2133720"/>
                <a:ext cx="2808360" cy="4182840"/>
              </a:xfrm>
              <a:custGeom>
                <a:avLst/>
                <a:gdLst>
                  <a:gd name="textAreaLeft" fmla="*/ 360 w 2808360"/>
                  <a:gd name="textAreaRight" fmla="*/ 2808000 w 2808360"/>
                  <a:gd name="textAreaTop" fmla="*/ 360 h 4182840"/>
                  <a:gd name="textAreaBottom" fmla="*/ 4182480 h 4182840"/>
                </a:gdLst>
                <a:ahLst/>
                <a:rect l="textAreaLeft" t="textAreaTop" r="textAreaRight" b="textAreaBottom"/>
                <a:pathLst>
                  <a:path w="21600" h="32170">
                    <a:moveTo>
                      <a:pt x="12" y="0"/>
                    </a:moveTo>
                    <a:arcTo wR="12" hR="12" stAng="16200000" swAng="-5400000"/>
                    <a:lnTo>
                      <a:pt x="0" y="32158"/>
                    </a:lnTo>
                    <a:arcTo wR="12" hR="12" stAng="10800000" swAng="-5400000"/>
                    <a:lnTo>
                      <a:pt x="21588" y="32170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AutoShape 8"/>
              <p:cNvSpPr/>
              <p:nvPr/>
            </p:nvSpPr>
            <p:spPr>
              <a:xfrm>
                <a:off x="571248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0" name="Group 3"/>
          <p:cNvGrpSpPr/>
          <p:nvPr/>
        </p:nvGrpSpPr>
        <p:grpSpPr>
          <a:xfrm>
            <a:off x="960840" y="2362320"/>
            <a:ext cx="6996960" cy="3386160"/>
            <a:chOff x="960840" y="2362320"/>
            <a:chExt cx="6996960" cy="3386160"/>
          </a:xfrm>
        </p:grpSpPr>
        <p:sp>
          <p:nvSpPr>
            <p:cNvPr id="351" name="AutoShape 4"/>
            <p:cNvSpPr/>
            <p:nvPr/>
          </p:nvSpPr>
          <p:spPr>
            <a:xfrm>
              <a:off x="990720" y="2362320"/>
              <a:ext cx="6927840" cy="337500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2" name="Group 5"/>
            <p:cNvGrpSpPr/>
            <p:nvPr/>
          </p:nvGrpSpPr>
          <p:grpSpPr>
            <a:xfrm>
              <a:off x="960840" y="2362320"/>
              <a:ext cx="6996960" cy="3386160"/>
              <a:chOff x="960840" y="2362320"/>
              <a:chExt cx="6996960" cy="3386160"/>
            </a:xfrm>
          </p:grpSpPr>
          <p:sp>
            <p:nvSpPr>
              <p:cNvPr id="353" name="AutoShape 6"/>
              <p:cNvSpPr/>
              <p:nvPr/>
            </p:nvSpPr>
            <p:spPr>
              <a:xfrm>
                <a:off x="990720" y="2362320"/>
                <a:ext cx="6926040" cy="337320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4" name="Group 7"/>
              <p:cNvGrpSpPr/>
              <p:nvPr/>
            </p:nvGrpSpPr>
            <p:grpSpPr>
              <a:xfrm>
                <a:off x="960840" y="2362320"/>
                <a:ext cx="6996960" cy="3386160"/>
                <a:chOff x="960840" y="2362320"/>
                <a:chExt cx="6996960" cy="3386160"/>
              </a:xfrm>
            </p:grpSpPr>
            <p:sp>
              <p:nvSpPr>
                <p:cNvPr id="355" name="AutoShape 8"/>
                <p:cNvSpPr/>
                <p:nvPr/>
              </p:nvSpPr>
              <p:spPr>
                <a:xfrm>
                  <a:off x="990720" y="2362320"/>
                  <a:ext cx="6926040" cy="337320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AutoShape 9"/>
                <p:cNvSpPr/>
                <p:nvPr/>
              </p:nvSpPr>
              <p:spPr>
                <a:xfrm>
                  <a:off x="960840" y="2362320"/>
                  <a:ext cx="699696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30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iga nädal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Esmaspäeval: kavas olev sisu, eksamiks kriitiline, õppejõud T.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eljapäeval: erinevad teemad / kursuste ülevaated / õppejõud, kohati eksamil kajastatud, kohati e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 nädal on vaja veebist teha mikro-kontroll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ursuse hinne arvutatakse nii: eksamipunktid (0-100) - kontrolltööde summaarne tulemus veapunkti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s kontrolltöös on kümme küsimust: kaks viga kontrolltöös on ük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, neli kaks veapunkti jne, tegemata kontrolltöö on vii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dengi kõigi kontrolltööde miinuspunktide summast lahutataks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eskmine kontrolltööde miinuspunktide summa, vahe ongi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maarn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lem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vs diskree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8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rvutiteadus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a võimalikult keerulisi asju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ommertsrakendused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iendile meelepäraseid asj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73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5" name="Line 6"/>
          <p:cNvSpPr/>
          <p:nvPr/>
        </p:nvSpPr>
        <p:spPr>
          <a:xfrm>
            <a:off x="3048120" y="268272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3200400" y="3086280"/>
            <a:ext cx="5024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seneriasja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: teha kõike lihtsamal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0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loo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90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i o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õik kursuse materjalid ja informatsioon on sellel lehe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peamiselt David Ecki praktikumide osi ja tarkvar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52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oovit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d igapäevaselt loetavad ling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reddit.co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(vali sobivad alamredditid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oovitavad regulaarselt loetavad ling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slashdot.or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www.engadget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news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irjandu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ul Grahami esse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 Hacker’s Dictionar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: mõtlemisest tõestamisen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athedral and the Bazaa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nu manife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Uuring kohape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ata järgmist programmilõiku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int a = 10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int b = 20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 = b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üsimus 1: kas sa oled kunagi programmeerinud (kirjuta jah / ei)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üsimus 2: mis on a ja b väärtused selle lõigu täitmise järel? Kirjuta õige vastuse n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1)    a = 30  b = 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2)    a = 30  b = 2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3)    a = 20  b = 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4)    a = 20  b = 2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5)    a = 10  b = 1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6)    a = 10  b = 2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7)    a = 20  b = 1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8)    a = 0    b = 1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9)    Kui mitte ükski neist ei ole õige, märgi ise õiged väärtus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=         b=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8-09-03T06:40:06Z</dcterms:modified>
  <cp:revision>31</cp:revision>
  <dc:subject/>
  <dc:title> </dc:title>
</cp:coreProperties>
</file>